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E0F6-87BB-4EB9-900A-F6D6CD0C5D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519-2B51-4D68-ABF5-D29D9FDAE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888-BDD3-4971-80E8-86E27D4F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FE7-5078-43DA-88D6-7F9196CA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951-97C1-47AB-80E4-A2ED3851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F71-D326-4164-8FD3-6E727519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08E6-7E67-4203-A6B5-CA82DD33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C18B-160C-4636-BA9A-82AA7440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D1B8-D141-48AF-8FC5-BCF20149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F32D-DD2C-4BBA-8FAD-E98F324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0F68-0CC9-46A0-B23A-8483D1E7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1943-05C8-4C4A-9EF8-28D09503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ACFF-4E74-450D-9110-F6BF293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56E-E270-4B3B-9E45-C078B495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E2DA-27C8-4BE9-BD3D-E6819E4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1BD5-4125-408C-8B2C-CC53227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50A-35A9-4489-9006-BC49DCE4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BE33-1930-4059-A22C-A1A6D641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D328-4A61-4E66-B13D-E1F7C7AB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B7A-C944-44F8-B34D-7487297C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A5B-2144-4E8A-AEE0-F4235E8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FD1-6EF8-447F-A2B4-BC468FE1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020-E6CA-43E8-8CE3-79E83B1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18E-D675-469B-88F2-D1665A2A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7F2-06D4-4A07-B362-3309778B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96D-C77E-4F67-A645-4444EBE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423A-DE8A-4651-BE18-2FEF9311EE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5CF1-4D0A-43E7-9CCB-AF6AB1CD65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874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СТВЕННЫЕ  ЗНАЧЕ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ЗНА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ВЕ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28760" y="1357200"/>
          <a:ext cx="6006960" cy="11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357200"/>
                    <a:ext cx="60069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2"/>
          <p:cNvGraphicFramePr/>
          <p:nvPr/>
        </p:nvGraphicFramePr>
        <p:xfrm>
          <a:off x="318960" y="2577960"/>
          <a:ext cx="80391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960" y="2577960"/>
                    <a:ext cx="80391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"/>
          <p:cNvGraphicFramePr/>
          <p:nvPr/>
        </p:nvGraphicFramePr>
        <p:xfrm>
          <a:off x="357120" y="3786120"/>
          <a:ext cx="4154400" cy="11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20" y="3786120"/>
                    <a:ext cx="41544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9"/>
          <p:cNvSpPr/>
          <p:nvPr/>
        </p:nvSpPr>
        <p:spPr>
          <a:xfrm>
            <a:off x="4932720" y="3714840"/>
            <a:ext cx="15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9"/>
          <p:cNvGraphicFramePr/>
          <p:nvPr/>
        </p:nvGraphicFramePr>
        <p:xfrm>
          <a:off x="6772320" y="3857760"/>
          <a:ext cx="106056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2320" y="3857760"/>
                    <a:ext cx="1060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4572000" y="4929120"/>
          <a:ext cx="3651120" cy="113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29120"/>
                    <a:ext cx="36511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"/>
          <p:cNvGraphicFramePr/>
          <p:nvPr/>
        </p:nvGraphicFramePr>
        <p:xfrm>
          <a:off x="558720" y="1428840"/>
          <a:ext cx="28861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28840"/>
                    <a:ext cx="28861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6"/>
          <p:cNvSpPr/>
          <p:nvPr/>
        </p:nvSpPr>
        <p:spPr>
          <a:xfrm>
            <a:off x="3848400" y="1214280"/>
            <a:ext cx="485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является собственным век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с    собств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м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Объект 18"/>
              <p:cNvSpPr txBox="1"/>
              <p:nvPr/>
            </p:nvSpPr>
            <p:spPr>
              <a:xfrm>
                <a:off x="5286240" y="18572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3"/>
          <p:cNvGraphicFramePr/>
          <p:nvPr/>
        </p:nvGraphicFramePr>
        <p:xfrm>
          <a:off x="5737320" y="2357280"/>
          <a:ext cx="126180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7320" y="2357280"/>
                    <a:ext cx="12618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9"/>
          <p:cNvSpPr/>
          <p:nvPr/>
        </p:nvSpPr>
        <p:spPr>
          <a:xfrm>
            <a:off x="428760" y="3214800"/>
            <a:ext cx="588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Аналогично для собственного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6572160" y="3214800"/>
          <a:ext cx="113364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3214800"/>
                    <a:ext cx="11336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3929040" y="3857760"/>
          <a:ext cx="2616120" cy="14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3857760"/>
                    <a:ext cx="26161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48200" y="1357200"/>
            <a:ext cx="81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оизведение собственных значений матрицы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но ее определител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отличных от нуля собственных знач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равно ее ра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 собственные значения матрицы отличны от ну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лько и только тогда, когда  матрица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вырожд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1"/>
          <p:cNvGraphicFramePr/>
          <p:nvPr/>
        </p:nvGraphicFramePr>
        <p:xfrm>
          <a:off x="4429080" y="2000160"/>
          <a:ext cx="402264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2000160"/>
                    <a:ext cx="40226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Объект 18"/>
              <p:cNvSpPr txBox="1"/>
              <p:nvPr/>
            </p:nvSpPr>
            <p:spPr>
              <a:xfrm>
                <a:off x="7643880" y="14288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143080" y="3643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6143760" y="4786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42440" y="1428840"/>
            <a:ext cx="8186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невырожд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, то                      собственное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матрицы        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е значение  матрицы    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1f1f99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туральное числ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Объект 18"/>
              <p:cNvSpPr txBox="1"/>
              <p:nvPr/>
            </p:nvSpPr>
            <p:spPr>
              <a:xfrm>
                <a:off x="2286000" y="207792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6" name="Object 4"/>
          <p:cNvGraphicFramePr/>
          <p:nvPr/>
        </p:nvGraphicFramePr>
        <p:xfrm>
          <a:off x="1503360" y="1500120"/>
          <a:ext cx="117792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500120"/>
                    <a:ext cx="11779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3483000" y="1785960"/>
          <a:ext cx="15177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3000" y="1785960"/>
                    <a:ext cx="1517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2643120" y="2571840"/>
          <a:ext cx="58896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571840"/>
                    <a:ext cx="5889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1571760" y="3187800"/>
          <a:ext cx="117792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1760" y="3187800"/>
                    <a:ext cx="11779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7429680" y="3214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5" name="Object 10"/>
          <p:cNvGraphicFramePr/>
          <p:nvPr/>
        </p:nvGraphicFramePr>
        <p:xfrm>
          <a:off x="836640" y="3714840"/>
          <a:ext cx="8064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3714840"/>
                    <a:ext cx="8064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1"/>
          <p:cNvGraphicFramePr/>
          <p:nvPr/>
        </p:nvGraphicFramePr>
        <p:xfrm>
          <a:off x="6429240" y="3714840"/>
          <a:ext cx="52704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29240" y="3714840"/>
                    <a:ext cx="527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680" y="1785960"/>
                <a:ext cx="40957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3" name="Object 22"/>
          <p:cNvGraphicFramePr/>
          <p:nvPr/>
        </p:nvGraphicFramePr>
        <p:xfrm>
          <a:off x="6643800" y="2357280"/>
          <a:ext cx="36504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2357280"/>
                    <a:ext cx="3650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21"/>
          <p:cNvGraphicFramePr/>
          <p:nvPr/>
        </p:nvGraphicFramePr>
        <p:xfrm>
          <a:off x="6572160" y="2857680"/>
          <a:ext cx="347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2160" y="2857680"/>
                    <a:ext cx="347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7143840" y="2928960"/>
          <a:ext cx="12430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3840" y="2928960"/>
                    <a:ext cx="12430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9"/>
          <p:cNvGraphicFramePr/>
          <p:nvPr/>
        </p:nvGraphicFramePr>
        <p:xfrm>
          <a:off x="5429160" y="3429000"/>
          <a:ext cx="365040" cy="4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9160" y="3429000"/>
                    <a:ext cx="3650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8"/>
          <p:cNvGraphicFramePr/>
          <p:nvPr/>
        </p:nvGraphicFramePr>
        <p:xfrm>
          <a:off x="1857240" y="3929040"/>
          <a:ext cx="8589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929040"/>
                    <a:ext cx="858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25"/>
          <p:cNvSpPr/>
          <p:nvPr/>
        </p:nvSpPr>
        <p:spPr>
          <a:xfrm>
            <a:off x="4429080" y="772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357120" y="1143000"/>
            <a:ext cx="82155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из характеристического   уравн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но собственное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поиск соответствующих   числу        собственных векторов              матрицы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водится к  решению линейной системы                                   с постоянной квадратной матрицей                       поря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29"/>
          <p:cNvGraphicFramePr/>
          <p:nvPr/>
        </p:nvGraphicFramePr>
        <p:xfrm>
          <a:off x="3571920" y="4500720"/>
          <a:ext cx="2211480" cy="51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920" y="4500720"/>
                    <a:ext cx="221148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2"/>
          <p:cNvGraphicFramePr/>
          <p:nvPr/>
        </p:nvGraphicFramePr>
        <p:xfrm>
          <a:off x="3929040" y="5072040"/>
          <a:ext cx="120636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9040" y="5072040"/>
                    <a:ext cx="120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1"/>
          <p:cNvGraphicFramePr/>
          <p:nvPr/>
        </p:nvGraphicFramePr>
        <p:xfrm>
          <a:off x="6786720" y="5072040"/>
          <a:ext cx="5299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1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6720" y="5072040"/>
                    <a:ext cx="529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3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"/>
          <p:cNvGraphicFramePr/>
          <p:nvPr/>
        </p:nvGraphicFramePr>
        <p:xfrm>
          <a:off x="4857840" y="1571760"/>
          <a:ext cx="130644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571760"/>
                    <a:ext cx="1306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4643280" y="1928880"/>
          <a:ext cx="38448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28880"/>
                    <a:ext cx="3844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88800" y="1450800"/>
            <a:ext cx="828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гда имеет бесконечное множество реш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 котором число базисных  (то есть максим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инейно независимых)  решений равн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    ранг матрицы  ,  то ес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отрицательное число,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"/>
          <p:cNvGraphicFramePr/>
          <p:nvPr/>
        </p:nvGraphicFramePr>
        <p:xfrm>
          <a:off x="2071800" y="1428840"/>
          <a:ext cx="261468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26146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2"/>
          <p:cNvGraphicFramePr/>
          <p:nvPr/>
        </p:nvGraphicFramePr>
        <p:xfrm>
          <a:off x="6357960" y="3071880"/>
          <a:ext cx="1096920" cy="58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7960" y="3071880"/>
                    <a:ext cx="1096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214280" y="3643200"/>
          <a:ext cx="712800" cy="5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3643200"/>
                    <a:ext cx="7128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6"/>
          <p:cNvGraphicFramePr/>
          <p:nvPr/>
        </p:nvGraphicFramePr>
        <p:xfrm>
          <a:off x="4286160" y="4214880"/>
          <a:ext cx="21384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4214880"/>
                    <a:ext cx="2138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7"/>
          <p:cNvGraphicFramePr/>
          <p:nvPr/>
        </p:nvGraphicFramePr>
        <p:xfrm>
          <a:off x="7572240" y="3643200"/>
          <a:ext cx="3654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2240" y="3643200"/>
                    <a:ext cx="3654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6"/>
          <p:cNvGraphicFramePr/>
          <p:nvPr/>
        </p:nvGraphicFramePr>
        <p:xfrm>
          <a:off x="2357280" y="4143240"/>
          <a:ext cx="58608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4143240"/>
                    <a:ext cx="5860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5"/>
          <p:cNvGraphicFramePr/>
          <p:nvPr/>
        </p:nvGraphicFramePr>
        <p:xfrm>
          <a:off x="6572160" y="4143240"/>
          <a:ext cx="53028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4143240"/>
                    <a:ext cx="53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21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27"/>
          <p:cNvSpPr/>
          <p:nvPr/>
        </p:nvSpPr>
        <p:spPr>
          <a:xfrm>
            <a:off x="428760" y="128592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этому  любому собственному значению квадра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соответствует хотя бы один линей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зависимый собственный в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олее того, число линейно независимых собственных векторов,   отвечающих собственному значени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        не превосходит числ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428760" y="1357200"/>
            <a:ext cx="8143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простое собственное значение матрицы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тогда  этому   числу  отвечает  ровно  один линейно независимый собственный век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оторый находим из системы                         , например, с помощью метода Гау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"/>
          <p:cNvGraphicFramePr/>
          <p:nvPr/>
        </p:nvGraphicFramePr>
        <p:xfrm>
          <a:off x="1928880" y="1428840"/>
          <a:ext cx="7365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428840"/>
                    <a:ext cx="736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857160" y="3000240"/>
          <a:ext cx="117972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000240"/>
                    <a:ext cx="11797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4"/>
          <p:cNvGraphicFramePr/>
          <p:nvPr/>
        </p:nvGraphicFramePr>
        <p:xfrm>
          <a:off x="6286680" y="3071880"/>
          <a:ext cx="22111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3071880"/>
                    <a:ext cx="22111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-34200" y="1571760"/>
            <a:ext cx="92012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лучай, когда характеристическое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мплексный корень               кратнос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как данное алгебраическое уравнени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ействительными коэффициентами, то оно обяз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рень           комплексно–сопряженный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шению  к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1357200" y="2500200"/>
                <a:ext cx="592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25" name="Object 2"/>
          <p:cNvGraphicFramePr/>
          <p:nvPr/>
        </p:nvGraphicFramePr>
        <p:xfrm>
          <a:off x="4714920" y="3214800"/>
          <a:ext cx="4017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3214800"/>
                    <a:ext cx="4017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7273800" y="3294000"/>
          <a:ext cx="94140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3800" y="3294000"/>
                    <a:ext cx="94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5"/>
          <p:cNvGraphicFramePr/>
          <p:nvPr/>
        </p:nvGraphicFramePr>
        <p:xfrm>
          <a:off x="2786040" y="4929120"/>
          <a:ext cx="4683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6040" y="49291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1"/>
          <p:cNvGraphicFramePr/>
          <p:nvPr/>
        </p:nvGraphicFramePr>
        <p:xfrm>
          <a:off x="2571840" y="5429160"/>
          <a:ext cx="40140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542916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ссмотрим  квадратную матрицу  порядка         с постоянными действительными эле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       называется собственным значением, а ненулевой вектор      называется соответствующим собственным вектором матрицы         если выполняется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Объект 5"/>
              <p:cNvSpPr txBox="1"/>
              <p:nvPr/>
            </p:nvSpPr>
            <p:spPr>
              <a:xfrm>
                <a:off x="3181320" y="2492280"/>
                <a:ext cx="2120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7"/>
              <p:cNvSpPr txBox="1"/>
              <p:nvPr/>
            </p:nvSpPr>
            <p:spPr>
              <a:xfrm>
                <a:off x="7740720" y="1557360"/>
                <a:ext cx="280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8"/>
              <p:cNvSpPr txBox="1"/>
              <p:nvPr/>
            </p:nvSpPr>
            <p:spPr>
              <a:xfrm>
                <a:off x="6804000" y="1989000"/>
                <a:ext cx="393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16"/>
              <p:cNvSpPr txBox="1"/>
              <p:nvPr/>
            </p:nvSpPr>
            <p:spPr>
              <a:xfrm>
                <a:off x="3708360" y="38606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17"/>
              <p:cNvSpPr txBox="1"/>
              <p:nvPr/>
            </p:nvSpPr>
            <p:spPr>
              <a:xfrm>
                <a:off x="4932360" y="436572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8"/>
              <p:cNvSpPr txBox="1"/>
              <p:nvPr/>
            </p:nvSpPr>
            <p:spPr>
              <a:xfrm>
                <a:off x="8028000" y="4941720"/>
                <a:ext cx="3380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Объект 20"/>
              <p:cNvSpPr txBox="1"/>
              <p:nvPr/>
            </p:nvSpPr>
            <p:spPr>
              <a:xfrm>
                <a:off x="4954680" y="5516640"/>
                <a:ext cx="2570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428760" y="1428840"/>
            <a:ext cx="824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ь корня          равна  числу                  Поэтому следует найти собственные векторы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е собственному значению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алее нужно  построить к ним комплексно-сопряж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, которые являются собств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ми, соответствующими соб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1"/>
          <p:cNvGraphicFramePr/>
          <p:nvPr/>
        </p:nvGraphicFramePr>
        <p:xfrm>
          <a:off x="3059280" y="1428840"/>
          <a:ext cx="4680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28840"/>
                    <a:ext cx="468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5796000" y="1463760"/>
          <a:ext cx="4269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463760"/>
                    <a:ext cx="426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786720" y="2500200"/>
          <a:ext cx="4014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6720" y="250020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2143080" y="4714920"/>
          <a:ext cx="46836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47149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395280" y="1628640"/>
            <a:ext cx="820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у матрицы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есть кратное соб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кратности         Тогда, решая сис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удет найдено         линейно независимых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ов,  отвечающих числ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ичем число           удовлетворяет двойному неравенств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Объект 2"/>
          <p:cNvGraphicFramePr/>
          <p:nvPr/>
        </p:nvGraphicFramePr>
        <p:xfrm>
          <a:off x="2050920" y="2205000"/>
          <a:ext cx="333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05000"/>
                    <a:ext cx="333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4140360" y="2276640"/>
                <a:ext cx="704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Объект 7"/>
              <p:cNvSpPr txBox="1"/>
              <p:nvPr/>
            </p:nvSpPr>
            <p:spPr>
              <a:xfrm>
                <a:off x="2627280" y="2852640"/>
                <a:ext cx="57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Объект 9"/>
              <p:cNvSpPr txBox="1"/>
              <p:nvPr/>
            </p:nvSpPr>
            <p:spPr>
              <a:xfrm>
                <a:off x="5003640" y="3357720"/>
                <a:ext cx="397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Объект 11"/>
              <p:cNvSpPr txBox="1"/>
              <p:nvPr/>
            </p:nvSpPr>
            <p:spPr>
              <a:xfrm>
                <a:off x="2556000" y="4581360"/>
                <a:ext cx="1455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Объект 13"/>
              <p:cNvSpPr txBox="1"/>
              <p:nvPr/>
            </p:nvSpPr>
            <p:spPr>
              <a:xfrm>
                <a:off x="1258920" y="5084640"/>
                <a:ext cx="1644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Объект 14"/>
              <p:cNvSpPr txBox="1"/>
              <p:nvPr/>
            </p:nvSpPr>
            <p:spPr>
              <a:xfrm>
                <a:off x="2700360" y="4005360"/>
                <a:ext cx="579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4"/>
          <p:cNvSpPr/>
          <p:nvPr/>
        </p:nvSpPr>
        <p:spPr>
          <a:xfrm>
            <a:off x="90000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3552"/>
          <p:cNvSpPr/>
          <p:nvPr/>
        </p:nvSpPr>
        <p:spPr>
          <a:xfrm>
            <a:off x="468360" y="1413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.  Если оказывается, что                то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го значения         будет найдено столько линейно независимых собственных векторов, какова кратность рассматриваемого собственного значения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23571"/>
              <p:cNvSpPr txBox="1"/>
              <p:nvPr/>
            </p:nvSpPr>
            <p:spPr>
              <a:xfrm>
                <a:off x="5691240" y="1592280"/>
                <a:ext cx="12571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0" name="Объект 23572"/>
          <p:cNvGraphicFramePr/>
          <p:nvPr/>
        </p:nvGraphicFramePr>
        <p:xfrm>
          <a:off x="3924360" y="1978200"/>
          <a:ext cx="40140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Объект 235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78200"/>
                    <a:ext cx="40140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Объект 23573"/>
          <p:cNvGraphicFramePr/>
          <p:nvPr/>
        </p:nvGraphicFramePr>
        <p:xfrm>
          <a:off x="8101080" y="3068640"/>
          <a:ext cx="4014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Объект 235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306864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1"/>
          <p:cNvSpPr/>
          <p:nvPr/>
        </p:nvSpPr>
        <p:spPr>
          <a:xfrm>
            <a:off x="395280" y="1413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ти собственные значения и собственные векторы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Объект 3"/>
              <p:cNvSpPr txBox="1"/>
              <p:nvPr/>
            </p:nvSpPr>
            <p:spPr>
              <a:xfrm>
                <a:off x="3132000" y="2492280"/>
                <a:ext cx="1586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TextBox 4"/>
          <p:cNvSpPr/>
          <p:nvPr/>
        </p:nvSpPr>
        <p:spPr>
          <a:xfrm>
            <a:off x="584280" y="371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584280" y="3645000"/>
            <a:ext cx="7875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дем собственные значения матр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785880" y="4292640"/>
                <a:ext cx="7170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Объект 5"/>
              <p:cNvSpPr txBox="1"/>
              <p:nvPr/>
            </p:nvSpPr>
            <p:spPr>
              <a:xfrm>
                <a:off x="3513240" y="5229360"/>
                <a:ext cx="1828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2"/>
              <p:cNvSpPr txBox="1"/>
              <p:nvPr/>
            </p:nvSpPr>
            <p:spPr>
              <a:xfrm>
                <a:off x="1096920" y="1457280"/>
                <a:ext cx="757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Box 6"/>
          <p:cNvSpPr/>
          <p:nvPr/>
        </p:nvSpPr>
        <p:spPr>
          <a:xfrm>
            <a:off x="698760" y="1413000"/>
            <a:ext cx="49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е значение кра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10"/>
              <p:cNvSpPr txBox="1"/>
              <p:nvPr/>
            </p:nvSpPr>
            <p:spPr>
              <a:xfrm>
                <a:off x="5718240" y="1413000"/>
                <a:ext cx="6620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Box 11"/>
          <p:cNvSpPr/>
          <p:nvPr/>
        </p:nvSpPr>
        <p:spPr>
          <a:xfrm>
            <a:off x="147636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Объект 14"/>
          <p:cNvGraphicFramePr/>
          <p:nvPr/>
        </p:nvGraphicFramePr>
        <p:xfrm>
          <a:off x="684360" y="1916280"/>
          <a:ext cx="60879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Объект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60879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5" name="Объект 16"/>
              <p:cNvSpPr txBox="1"/>
              <p:nvPr/>
            </p:nvSpPr>
            <p:spPr>
              <a:xfrm>
                <a:off x="684360" y="3284640"/>
                <a:ext cx="31194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Объект 18"/>
              <p:cNvSpPr txBox="1"/>
              <p:nvPr/>
            </p:nvSpPr>
            <p:spPr>
              <a:xfrm>
                <a:off x="4518000" y="3429000"/>
                <a:ext cx="356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8" name="Прямая соединительная линия 20"/>
          <p:cNvSpPr/>
          <p:nvPr/>
        </p:nvSpPr>
        <p:spPr>
          <a:xfrm>
            <a:off x="537048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Соединительная линия уступом 22"/>
          <p:cNvCxnSpPr/>
          <p:nvPr/>
        </p:nvCxnSpPr>
        <p:spPr>
          <a:xfrm flipV="1" rot="10800000">
            <a:off x="5764320" y="3790440"/>
            <a:ext cx="536760" cy="215280"/>
          </a:xfrm>
          <a:prstGeom prst="bentConnector3">
            <a:avLst>
              <a:gd name="adj1" fmla="val 50000"/>
            </a:avLst>
          </a:prstGeom>
          <a:ln w="3492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400" name="Прямая соединительная линия 37"/>
          <p:cNvSpPr/>
          <p:nvPr/>
        </p:nvSpPr>
        <p:spPr>
          <a:xfrm>
            <a:off x="766764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38"/>
          <p:cNvSpPr/>
          <p:nvPr/>
        </p:nvSpPr>
        <p:spPr>
          <a:xfrm flipH="1">
            <a:off x="6804000" y="3789360"/>
            <a:ext cx="1152720" cy="144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6"/>
          <p:cNvSpPr/>
          <p:nvPr/>
        </p:nvSpPr>
        <p:spPr>
          <a:xfrm>
            <a:off x="9936000" y="6858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1"/>
              <p:cNvSpPr txBox="1"/>
              <p:nvPr/>
            </p:nvSpPr>
            <p:spPr>
              <a:xfrm>
                <a:off x="860400" y="4653000"/>
                <a:ext cx="1427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9"/>
              <p:cNvSpPr txBox="1"/>
              <p:nvPr/>
            </p:nvSpPr>
            <p:spPr>
              <a:xfrm>
                <a:off x="2700360" y="4797360"/>
                <a:ext cx="3301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Объект 3"/>
              <p:cNvSpPr txBox="1"/>
              <p:nvPr/>
            </p:nvSpPr>
            <p:spPr>
              <a:xfrm>
                <a:off x="3529080" y="4444920"/>
                <a:ext cx="1012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Объект 5"/>
              <p:cNvSpPr txBox="1"/>
              <p:nvPr/>
            </p:nvSpPr>
            <p:spPr>
              <a:xfrm>
                <a:off x="2465280" y="5413320"/>
                <a:ext cx="849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25"/>
          <p:cNvSpPr/>
          <p:nvPr/>
        </p:nvSpPr>
        <p:spPr>
          <a:xfrm>
            <a:off x="4951080" y="515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4968720" y="972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1407600" y="5516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всех собственных значений матрицы  называется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пектром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едставим равенство (1) в сл.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диничная матрица порядка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енство (2) является системой линейных алгебраических уравнений относительно вектора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4405320" y="3141720"/>
                <a:ext cx="3092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λE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71640" y="3141720"/>
                <a:ext cx="2268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971640" y="3860640"/>
                <a:ext cx="5540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Объект 7"/>
              <p:cNvSpPr txBox="1"/>
              <p:nvPr/>
            </p:nvSpPr>
            <p:spPr>
              <a:xfrm>
                <a:off x="5796000" y="3897360"/>
                <a:ext cx="2808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17"/>
              <p:cNvSpPr txBox="1"/>
              <p:nvPr/>
            </p:nvSpPr>
            <p:spPr>
              <a:xfrm>
                <a:off x="5580000" y="486900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вида (2) всегда совместна, так как всегда имеет нулев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имеет тривиальное (нулевое             ) решение, если определитель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 имеет ненулевые решения               , 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6653160" y="270828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6300720" y="3213000"/>
                <a:ext cx="1795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6588000" y="386064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≠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916360" y="4581360"/>
                <a:ext cx="2914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2556000" y="4437000"/>
                <a:ext cx="43290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9"/>
          <p:cNvSpPr/>
          <p:nvPr/>
        </p:nvSpPr>
        <p:spPr>
          <a:xfrm>
            <a:off x="447840" y="1557360"/>
            <a:ext cx="81565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называется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уравнением матрицы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ешения уравнения (3) называются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собственными значениями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можно представить в сл.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Объект 18"/>
              <p:cNvSpPr txBox="1"/>
              <p:nvPr/>
            </p:nvSpPr>
            <p:spPr>
              <a:xfrm>
                <a:off x="4140360" y="22050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3780000" y="3357720"/>
                <a:ext cx="338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ычислив определитель,   разложив его по элементам первой строки, и сгруппировав подобные члены,  получим алгебраическое уравнение степе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сительно     , а               где постоянные действительные 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гочлен       ой степени  относительно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многочлено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665360" y="3141720"/>
                <a:ext cx="5929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Объект 7"/>
              <p:cNvSpPr txBox="1"/>
              <p:nvPr/>
            </p:nvSpPr>
            <p:spPr>
              <a:xfrm>
                <a:off x="6948360" y="270828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16"/>
              <p:cNvSpPr txBox="1"/>
              <p:nvPr/>
            </p:nvSpPr>
            <p:spPr>
              <a:xfrm>
                <a:off x="2556000" y="393372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3995640" y="3933720"/>
                <a:ext cx="1684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071960" y="4429080"/>
                <a:ext cx="18208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" name="Object 12"/>
          <p:cNvGraphicFramePr/>
          <p:nvPr/>
        </p:nvGraphicFramePr>
        <p:xfrm>
          <a:off x="2000160" y="5143680"/>
          <a:ext cx="533520" cy="3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5143680"/>
                    <a:ext cx="5335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6357960" y="50720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Объект 18"/>
          <p:cNvGraphicFramePr/>
          <p:nvPr/>
        </p:nvGraphicFramePr>
        <p:xfrm>
          <a:off x="7424640" y="5643720"/>
          <a:ext cx="4334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4640" y="5643720"/>
                    <a:ext cx="4334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гласно основной теореме алгебры характеристическое уравнение всегда имеет ровно корней       (с учетом их кратности),  которые в общем случае являются комплексными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юбая постоянная квадратная матр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           имеет с учетом кратности ро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ых значений, совпадающих с корн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Объект 7"/>
              <p:cNvSpPr txBox="1"/>
              <p:nvPr/>
            </p:nvSpPr>
            <p:spPr>
              <a:xfrm>
                <a:off x="1857240" y="285768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735804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200016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Объект 18"/>
              <p:cNvSpPr txBox="1"/>
              <p:nvPr/>
            </p:nvSpPr>
            <p:spPr>
              <a:xfrm>
                <a:off x="7858080" y="4000680"/>
                <a:ext cx="37152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428760" y="1357200"/>
            <a:ext cx="81439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адача нахождения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й матрицы           сводится к ре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ти собственные значения  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Объект 18"/>
              <p:cNvSpPr txBox="1"/>
              <p:nvPr/>
            </p:nvSpPr>
            <p:spPr>
              <a:xfrm>
                <a:off x="3357720" y="2071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1" name="Object 14"/>
          <p:cNvGraphicFramePr/>
          <p:nvPr/>
        </p:nvGraphicFramePr>
        <p:xfrm>
          <a:off x="5286240" y="2643120"/>
          <a:ext cx="557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643120"/>
                    <a:ext cx="557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5"/>
          <p:cNvGraphicFramePr/>
          <p:nvPr/>
        </p:nvGraphicFramePr>
        <p:xfrm>
          <a:off x="2071800" y="3714840"/>
          <a:ext cx="191916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3714840"/>
                    <a:ext cx="19191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18"/>
          <p:cNvSpPr/>
          <p:nvPr/>
        </p:nvSpPr>
        <p:spPr>
          <a:xfrm>
            <a:off x="459360" y="5072040"/>
            <a:ext cx="79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ставляем характеристическ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500040" y="1428840"/>
          <a:ext cx="472608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47260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714240" y="3000240"/>
          <a:ext cx="383868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000240"/>
                    <a:ext cx="38386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"/>
          <p:cNvGraphicFramePr/>
          <p:nvPr/>
        </p:nvGraphicFramePr>
        <p:xfrm>
          <a:off x="5715000" y="2357280"/>
          <a:ext cx="191772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35728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1"/>
          <p:cNvGraphicFramePr/>
          <p:nvPr/>
        </p:nvGraphicFramePr>
        <p:xfrm>
          <a:off x="5786280" y="3500280"/>
          <a:ext cx="1684440" cy="84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3500280"/>
                    <a:ext cx="168444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7" name="Прямая со стрелкой 15"/>
          <p:cNvCxnSpPr/>
          <p:nvPr/>
        </p:nvCxnSpPr>
        <p:spPr>
          <a:xfrm flipV="1">
            <a:off x="4571640" y="2928240"/>
            <a:ext cx="1143720" cy="57204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178" name="Прямая со стрелкой 17"/>
          <p:cNvCxnSpPr/>
          <p:nvPr/>
        </p:nvCxnSpPr>
        <p:spPr>
          <a:xfrm>
            <a:off x="4571640" y="3499920"/>
            <a:ext cx="1143720" cy="71532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179" name="TextBox 21"/>
          <p:cNvSpPr/>
          <p:nvPr/>
        </p:nvSpPr>
        <p:spPr>
          <a:xfrm>
            <a:off x="571680" y="4143240"/>
            <a:ext cx="48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собствен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й собстве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12"/>
          <p:cNvGraphicFramePr/>
          <p:nvPr/>
        </p:nvGraphicFramePr>
        <p:xfrm>
          <a:off x="5572080" y="4500720"/>
          <a:ext cx="2949480" cy="93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2080" y="4500720"/>
                    <a:ext cx="294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3"/>
          <p:cNvGraphicFramePr/>
          <p:nvPr/>
        </p:nvGraphicFramePr>
        <p:xfrm>
          <a:off x="2428920" y="5286240"/>
          <a:ext cx="1917720" cy="84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528624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MANYA</cp:lastModifiedBy>
  <dcterms:modified xsi:type="dcterms:W3CDTF">2014-10-16T19:15:06Z</dcterms:modified>
  <cp:revision>66</cp:revision>
  <dc:subject/>
  <dc:title>Определители второго и третьего порядка.</dc:title>
</cp:coreProperties>
</file>